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FF0-07E0-44FD-8F18-EB3936D6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46B-1A75-45F6-9D80-6DF33752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8C9-E77F-443D-B764-14F9CDE2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F70-E028-4D5A-A020-EDCADB43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F1D-FAFB-4A9A-A06C-49DE46C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E31-0FB9-4616-BC02-EF473EDA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AAD-7FD1-4A0D-9FA2-CAA57A5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E3A-9105-4459-B05E-808E7DC5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7DC-A48E-48E1-A63E-E4B9F50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C79-EA17-4A5D-817B-A61DE135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D50-0646-4CAA-BF9F-1A7016C5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53D-D691-429A-98EC-82A957CC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2988-34DF-4FC2-B859-AB31D7A9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fzo.rs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8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78160" y="301896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ВАЛИДНОСТ ЕКОНОМСКИХ СТУДИ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економск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ађен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тудија има добро дефинисани економски ци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упоређује добро дефинисане алтернативне поступке (дијагностичке или терапијске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дефинише гледиште са кога се спроводи анализ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тудија цитира добре доказе о ефикасности алтернати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у студији идентификовани сви релевантни трошкови и ефекти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економске студије значајни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сте економских студиј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 min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ефикасност (cost/effective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фекат два или више поступака се изрази у истим јединицама (нпр. трајање хоспитализације, смртност после месец дана и сл.), а затим се упоређују трошкови по јединици мер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добробит (cost/bene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фекти два или више поступака су изражени у различитим јединицама, али се затим конвертују у заједничку јединицу (нпр. новац); на крају се трошкови упоређују по заједничкој једин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употребљивост (cost/ut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 Adjusted Life Years (QА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економс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ујући трошкови или трошкови по јединици мерења импресив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закључци студије мењају ако се у реалним границама мењају цене лечења или ефе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(sensitivity analysis – анализа осетљив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а ли се резултати могу применити на нашег пацијент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ребно је прилагодити економске студије рађене у другим земљама, пре свега за цене здравствених усл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ене здравствених услуга су у Србији од 10 до 100 пута ниже од цене у развијеним земљ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вор података за цене у Србији: тарифна књига РФЗО-а и Листа лекова РФЗО-а. Доступно на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rfzo.rs/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32:01Z</dcterms:modified>
  <cp:revision>58</cp:revision>
  <dc:subject/>
  <dc:title>Slide 1</dc:title>
</cp:coreProperties>
</file>